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A9326-7D90-413A-800F-160A97354C2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60E3F-CBC6-416A-9424-DF897D9E9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6D586-93FF-4717-A63E-5116F9A8B7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29182-EF13-400B-8482-63FFCBC72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FAAF8-0914-428B-B9F5-CBEFA1287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57C18-6636-461D-9025-9E9F4BCC8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8997C-A606-47BA-A000-4731C6E0D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5A6AF-F1C9-46BC-AC85-67BCF5E46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EC86D-511F-45FF-96FA-0D495B4221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8DCC6-0D45-44EB-B490-297EA48B58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1635C-6FB8-4647-8699-F840463D0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040BA-A3DC-4008-9414-630E54C72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E40078-286E-4FCC-B8FF-0C9153243F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AE7095-F55F-4D36-8301-BC3747C30F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ADBF9A-19B5-4610-BEA2-56FB87EECA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8F3DFD-718C-43F0-B9E0-25E9B5A8B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8CD37A-F29A-4E39-A670-957C60B231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414BD-5BD0-46DF-99F4-2C0710DE49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4024C3-E02B-4F68-85C3-BD465957BD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928803-0C4F-4B7F-98A9-6DC4A79657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EC5C3C-3C12-4A3A-A0D8-AE014DB3E7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94CF64-9FD4-4980-9B34-A0958895D8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D57BA-6CD3-4541-A88F-5F73AE40B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83A58E-5EAE-488F-96AA-C4112C1AE6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E3C3B5-F147-4598-A30B-D1A2C1E8FA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8A049B-0CC9-471E-9A85-7E0885C127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6F1EBE-5D6A-4E17-B950-A7A3A9D5B1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AA5E42-49D2-4928-9C83-962ED173C4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4BC129-6C97-4AFD-8506-70FDA0D7AC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25CAEC-8BE2-4016-AA22-2697373803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218F3A-4FCB-4169-9D19-C6EFC9CF95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5036DC-FCD7-4026-A76F-F561645440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1644F4-5418-4A8C-A65A-D197792CF7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971BA-26B0-4D65-801A-EB1D0FA76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5638D6-F1FD-4104-926F-F9779E2726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D65F82-8994-4782-B632-C8B9DD157B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393C64-E361-4B16-95F7-92629B2481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C3DD63-1626-4A5F-A261-577301BBBB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6DACB1-AB01-42B2-829E-3B5108F42D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9BE87B-974D-4652-82F2-7B5B580FCC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109690-0704-4D27-95BF-6A0BA80BD5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FEFE71-DB88-4CDA-BF86-DBECA091D4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ADEEC1-C772-45E9-BB4F-26E2E1E6DB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629F39-731F-4D91-9A7B-0A4202A8C2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66E02-940C-4585-8670-4CB995792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2A82D1-BFAE-4FF5-9029-0639DB47DC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04D31A6-58D7-4663-93FC-0C32183025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AACE97-2810-411A-A985-D7577ADD83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6996F62-3043-4B7E-A54D-EED9360256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2A7D77-C4F7-4791-B2E2-E075C1BF48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2C1889-84EE-4676-B3E4-343326224B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9D24C9-34CA-4948-89DF-3E37CAE78F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C8D392-EFAD-46DC-AD42-2329FD3DAE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9D76F1-7D6E-47E0-9B89-6ECE046FF4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87ADA4-DDCD-43A7-92BE-69F13763C1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C1878-462D-4221-8195-A0E8020EA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7EFA04-EE41-499A-8ABF-2315B82B0D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404A9C-A0D6-4A53-A93B-A54DE33999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634476-B340-4154-99DC-71482F2060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A6EB2CC-F677-40E0-B9E2-CE76DD67E6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AD2D60C-817A-4BC5-AFC0-1C4EF5F559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2AB6A-6521-4820-91AD-B19004387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C9297-BA4D-4571-B604-00A10A191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F3813-FCC3-4121-9CE8-737DB5B08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A3AD5-32B4-4F9C-A263-6FB52F2DB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706EE-8F44-4165-9FA7-77BB716A9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22428-5812-43C0-A1FC-8ABB8E660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F0794-D403-4621-92B6-6681A2EDA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FEB5F-509A-4E5A-8AFE-83D48DE7C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BA81D-7B59-41E1-AC4F-729F676D2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A1511-8DCD-4D99-9C21-138914F38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E470A-AFE8-435E-B650-F55D7F3C0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E83F34-D3B6-42FA-AF85-DABB45A808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8D6C8B-017A-4762-AA95-4DC1CB33C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2478D3-6A03-4F03-9EB3-E319E13720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EE7281-74C1-48F1-AB7C-AE4BC32BF4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AE76B-A4CF-42C7-AFDD-62EC52D7B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3601C-A514-40A4-ACB2-3D686D25B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363723-0D27-4DE7-9027-E5AA6C06F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2B7EA-7A01-4382-BC32-9698DECF2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B5EC0-EB92-4578-B443-D217B9ACA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4C106-CA3A-4D74-86BC-D7A16430D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E3D2C-45B6-4966-843F-6A8541949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C7952E-EC09-43C5-8606-79EC29ABF4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CE6585-4E4A-4C33-B7AB-B59E09A209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7F686E-50CD-4FCB-A616-D91B00C731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A329C-CFA5-4092-BE97-6E2115CFA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3C7313-F7DF-4298-A92E-89843C101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E0156-EE0A-4C3D-8129-54B2C332A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32C1A1-120A-4C5C-94F2-692FEA7C3C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5EEF5-178D-4562-B253-4434A4B26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70D65-8F71-4699-A680-31197AAAD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5410B-AB68-4587-94E3-6C27B88A6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6E99AE-D1F0-4BC2-B31D-FF8F19908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5B128-E2E4-479D-A94E-5AC37B0C3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3A3287-3D4A-470B-8139-A968528B8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99DA43-F5F8-4782-9656-2E197B976A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AC0169-43C3-4101-B2A1-ED51992926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D7429D-70D0-4FBD-937D-D790BB9F4C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76829-A2DC-43F9-883B-FEF8F85A1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90EC61-B80B-421A-8E2D-0248D5564D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F7501C-DAC2-4325-BE7C-41C7523D7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24E58-AE54-4466-921A-FA3B4422C0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D51720-D99C-4675-ACF2-81B02725D4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A01827-89BF-4875-B223-9E19B1C1A7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AA791-D7E9-4A8A-AAA5-7900BE75A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8B7C2-73BA-4F32-8301-33D116879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F698C-2FF8-4E3D-A831-176920334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29281A-D16C-43AF-8A44-B392B0512F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8ED85D-8221-493D-93A1-4D9DD9DF1C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A2706-D9E8-4569-AC98-04CDAD83F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40A8CD-C5E8-439A-95F8-ABAD91EA61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0A12E5-B4DD-44ED-AB36-45E1900189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84363F-7F47-42FA-A313-372828BDE2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BB08DB-E635-402A-8892-31BF6BC382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F6EC7F-EA51-47FB-8BFD-7713585642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4818EA-9E1E-4413-A4F8-6DEF8828BF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8F2176-B1F9-43EA-8946-9E6783B813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560C2-1D5E-4ED0-AD0B-30F61C242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7B1EA-B7AF-410F-90A5-0F97C9652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E9478-F55C-412D-87F1-95AE67612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B9D30-B850-4670-ADBB-006D5603B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B722F-75EB-42EE-A001-9A421DC825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2F7C46-04CF-4CCC-BCA2-F2D9B9B317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84B42A-8F9B-4F92-9F95-2C76BC2A89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CA61AD-3CB6-4840-AAFA-2ECF25E620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A58E27-7638-41C8-A562-E22F8B3314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826CFC-2322-4399-B207-8A7A66B17C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687AA9-2587-415D-86D3-C0A3005396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289B33-591E-49DD-8D57-FCCDBEFC55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1342F2-2115-432E-8374-9FD40361BC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199460-976E-43B2-BE36-E0AEE60450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3A792-A8DF-4377-B003-BF7BE1C56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DC8AA-E471-4704-9000-E699B57DE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C984F-7E12-4EC9-BF1E-1B39BA2277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524B9E-6558-4393-A0AA-0ECAC0192D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2B2792-59F0-4E06-9A24-088F16CFB6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98050B-DA83-41B3-8519-E66DCF2FBE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687596-3225-480D-95D7-0BC3769EED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705DF0-9BB5-4D94-9842-16287BFE71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A8281-4551-4104-A571-B418BEFA67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7BAAC6-BC66-42E1-AE62-9AD4B2066B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F7B564-6649-456D-B49F-32608DB855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6B7F4-8454-4565-A6FE-D79F4B68B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4DF5FB-1640-4928-A845-54E9F08E68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6D7C0-82B6-40E5-A46C-E15B94536D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63C424-7AE8-463B-8385-4FE7D4E201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DB0DC-410D-4393-B1D1-356124E27D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6BE933-038E-499C-8D8C-F8A73CFA7E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7A1F44-1205-4114-AAC7-82588F4EA5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61E49C-584B-43BB-8739-C49BBDC0DB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8D7241-0809-4FB5-9700-3A90BF54D9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2F59C5-F9C6-4F3F-91E4-37C70D4B03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836B90-673F-4AD0-AF2F-B6275DE3682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404F7-6E55-4085-AD03-1D10C92957AA}"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F1BF2-3B40-4111-9660-C1B1715CFB8F}" type="slidenum">
              <a:rPr b="0" lang="en-US" sz="1200" spc="-1" strike="noStrike">
                <a:solidFill>
                  <a:srgbClr val="898989"/>
                </a:solidFill>
                <a:latin typeface="Calibri"/>
              </a:rPr>
              <a:t>&lt;number&gt;</a:t>
            </a:fld>
            <a:fld id="{E6BD8C65-2A0A-4D57-9CDC-69DA0888EC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B0DE0-8CAF-444B-8094-CD74D4DD7E32}"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3D2F6-1588-43C6-98EF-3779E32912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043A9-0FD8-468E-AE70-669CC38831C7}"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191E6-1D33-4164-8B08-CC9675329C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A41D1-15A4-4F61-BAE4-2031EBDA530B}"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C1FB1-9C8E-43CE-A61B-E3CAE2AF06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15F95-FAA4-42D8-AC80-47A81D7D7249}"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54BC0-CB78-4F40-93FF-AF83FBE29E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6A513-E057-4AF1-8871-56D61F293651}"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2AE02-BF4A-4CF1-93CF-0EC198C654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1B9FB-0D47-49E8-8FD3-36F7CACEBA11}"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1F2D3-E92B-41D3-B48F-CF5F6E0D38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F7255-B876-4FB4-8CEE-CAD32B6D2665}"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CBD75-9AAC-40A2-AA39-EAE7081D79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D8630-CFA5-4FDC-AA6A-759FDA94A49B}"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96F03-1C9D-4A78-8D37-282722ABA5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2A006-5028-44DB-9B36-A4E6E6D31B11}"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AE2C4-021F-4F65-8BBB-2A27F0A55F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F3623-6EA1-4FA2-B98F-7A8662357667}"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F83A5-1679-4B7C-AF48-E19DABF4CF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72D8E-1B11-4485-8DD6-ED027D9E39E6}"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C3236-51FD-47BB-8F39-BFDA05C6E5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Brno</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12.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6F10A-255C-4D08-BCF7-96043FC4DD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712C9-D99E-44AB-987B-688B4DAF41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0E9F2-AC49-4038-992C-34D8D5D411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8511B-09E0-4663-B4E2-A89DE93048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BA2A0-8252-4A50-9380-3748A52FBB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E9E06-E689-4A13-9CFB-7205642743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CE2E3-FF81-45E2-995D-1AB77AC169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7BF79-D07E-448A-86C8-6C2ADD81D3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02FB4-3986-47BD-B4F1-B595A6DECA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07648-3F53-4DF8-B59B-A6D1D29FAC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20730-7FB1-4703-8C22-48C5CA5A0E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88A29-1DA7-45EB-9008-115723056E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8534F-E13F-47F2-A0B4-FF78E03198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F48B0-7768-4A8A-BF8F-571C56F23A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25C81-72EA-49AA-BD66-4175DBF9A1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CE95D-6810-4CC2-8D2B-773B5A78B3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844880"/>
        </p:xfrm>
        <a:graphic>
          <a:graphicData uri="http://schemas.openxmlformats.org/drawingml/2006/table">
            <a:tbl>
              <a:tblPr/>
              <a:tblGrid>
                <a:gridCol w="382680"/>
                <a:gridCol w="666720"/>
                <a:gridCol w="4228920"/>
                <a:gridCol w="585720"/>
                <a:gridCol w="1097280"/>
              </a:tblGrid>
              <a:tr h="11952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EBB63-5D1A-47F0-95FD-1342327480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7BB31-4A04-4F51-B7C5-A6D6C6BC6A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6DAE0-8379-4F67-9823-4B5D6FA9B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211E0-1F8B-40CF-9FC6-BA365A9EA6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1162DC-F10B-45D9-97AD-6C428A4D89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0-12-30T08:36:00Z</dcterms:modified>
  <cp:revision>56</cp:revision>
  <dc:subject/>
  <dc:title>Titulní strana – Titulek</dc:title>
</cp:coreProperties>
</file>